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23.jpeg" ContentType="image/jpe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5840" y="679320"/>
            <a:ext cx="452628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946-0C36-43A6-8F8C-B0858A44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6280" cy="3394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FD91-C1C6-481C-8DCD-5413A0AA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832040" y="685800"/>
            <a:ext cx="3338280" cy="250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960" y="3389040"/>
            <a:ext cx="579132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254320" y="0"/>
            <a:ext cx="2455920" cy="1841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7760" y="2246040"/>
            <a:ext cx="5877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78000" y="0"/>
            <a:ext cx="2495520" cy="1871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7760" y="2315880"/>
            <a:ext cx="6026040" cy="60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D62-9327-41AD-AC56-8FAB38A32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04920" y="0"/>
            <a:ext cx="2446560" cy="1835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2840" y="2246040"/>
            <a:ext cx="5865840" cy="61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905C-401D-461B-88B1-AC00A0536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06720" y="0"/>
            <a:ext cx="2538360" cy="1903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2480" y="2315880"/>
            <a:ext cx="5791320" cy="60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33F-80C6-4CB4-95B3-E7F1EFF4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DC1-032A-48C9-B6AA-457C5335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31D-ABE7-4B11-BD29-9511AF51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8AB-6D4A-4E47-AEB8-4C2CEF92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1E96-1272-4D92-924B-44A447AA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DB69-E6FA-4522-BFE2-11380EF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2924-BD4D-4DC0-8027-903FF971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C8FF-AEE6-4FA9-9EBB-E4E3C10C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2246-A05A-4C7D-8FBD-59273F3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F2EF-C396-41F5-9732-B284E76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B63-1DC6-4B2A-9E8D-FC35883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7EB-0AF5-4FE1-9D3D-3C27F624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B1E-170D-4B29-80DD-C6EA603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6F53-634C-4BF8-9DE8-7C7F0874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1044-B948-453C-91B6-FECD1DE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6D81-FC79-45E7-8F73-AA755C79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297-DE7D-4B21-8244-03E6C39C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A36-4D3D-4E8F-A6C2-A932648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AC5-5752-4476-83BA-4DE80B60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051-6198-4500-8C0D-4B93406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34B-2576-47AB-B206-084ED61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45C-764E-4FC1-8854-A5064C3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94C-5A3F-4484-A30A-AA31D9C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2F2-F9A6-4FE2-A9AD-54425FB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D87F-1675-4D07-BB54-582CA6BE1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DA9-D532-441B-B551-3B136634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89284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ss.ie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ess.i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sess.ie" TargetMode="External"/><Relationship Id="rId2" Type="http://schemas.openxmlformats.org/officeDocument/2006/relationships/hyperlink" Target="mailto:feedback@sess.ie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84360" y="214632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PECIAL EDUCATION SUPPOR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1555920"/>
            <a:ext cx="504720" cy="504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981000"/>
            <a:ext cx="503280" cy="503280"/>
          </a:xfrm>
          <a:prstGeom prst="ellipse">
            <a:avLst/>
          </a:prstGeom>
          <a:solidFill>
            <a:srgbClr val="e167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692280"/>
            <a:ext cx="431640" cy="431640"/>
          </a:xfrm>
          <a:prstGeom prst="ellipse">
            <a:avLst/>
          </a:prstGeom>
          <a:solidFill>
            <a:srgbClr val="c51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763560"/>
            <a:ext cx="432000" cy="433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1195560"/>
            <a:ext cx="360360" cy="360360"/>
          </a:xfrm>
          <a:prstGeom prst="ellipse">
            <a:avLst/>
          </a:prstGeom>
          <a:solidFill>
            <a:srgbClr val="ae1a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1771560"/>
            <a:ext cx="28764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2276640"/>
            <a:ext cx="216000" cy="28728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3355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e1a99"/>
                </a:solidFill>
                <a:latin typeface="Tempus Sans ITC"/>
              </a:rPr>
              <a:t>building on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005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dividual Educa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2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-6912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333360"/>
          <a:ext cx="6840720" cy="4110120"/>
        </p:xfrm>
        <a:graphic>
          <a:graphicData uri="http://schemas.openxmlformats.org/drawingml/2006/table">
            <a:tbl>
              <a:tblPr/>
              <a:tblGrid>
                <a:gridCol w="684072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hysical 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aring Impairment, Visu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motional Disturbance/Severe Emotional Disturb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neral Learning Disability( Borderline Mild/Mild/Moderate/Severe/Profoun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utism/Autistic Spectrum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800" y="6064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ncse_logo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147456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395280" y="4437000"/>
          <a:ext cx="6840720" cy="1804680"/>
        </p:xfrm>
        <a:graphic>
          <a:graphicData uri="http://schemas.openxmlformats.org/drawingml/2006/table">
            <a:tbl>
              <a:tblPr/>
              <a:tblGrid>
                <a:gridCol w="6840720"/>
              </a:tblGrid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 Learning 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ssessed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 Speech and Language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ultiple Dis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NCSE - IEP  Guidelines </a:t>
            </a:r>
            <a:br>
              <a:rPr sz="4400"/>
            </a:br>
            <a:r>
              <a:rPr b="1" i="1" lang="en-IE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066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uld be a practical working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corporating main area of pupil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ey interventions planned to meet thos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ccess to, participation in and benefit from the educational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ww.ncse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What is an IEP-1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IE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written pla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or a particular pupil that addresses specific nee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veloped through 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llaborative proces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volving the school, parents, pupil and other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cord of adapt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r modified aspects of the educational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ocus on the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riority learning need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f the pu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What is an IEP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eas of identified need arising from assessment should b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mount of adaptation and support will vary from pupil to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 IEP is an ongoing 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ing proces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’ rather than a finished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image of three second-level students male"/>
          <p:cNvPicPr/>
          <p:nvPr/>
        </p:nvPicPr>
        <p:blipFill>
          <a:blip r:embed="rId1"/>
          <a:stretch/>
        </p:blipFill>
        <p:spPr>
          <a:xfrm>
            <a:off x="468360" y="189000"/>
            <a:ext cx="1584360" cy="132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have an IEP for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pils with special educational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0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o a broad and balanc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vides for a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ntinuum of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nsure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cords ar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dentifies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upil progres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t a level commensurate with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image of student being assisted by staff"/>
          <p:cNvPicPr/>
          <p:nvPr/>
        </p:nvPicPr>
        <p:blipFill>
          <a:blip r:embed="rId1"/>
          <a:stretch/>
        </p:blipFill>
        <p:spPr>
          <a:xfrm>
            <a:off x="6877080" y="2349360"/>
            <a:ext cx="1905120" cy="333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Ps and Transition/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ssist with long-term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mote sharing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e for 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w for allocation/transfer of resources and specialist services a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assure pupil/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ghlight issues for teachers /year-heads/ class t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ids successful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145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ing an IEP: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 (Exemplars)</a:t>
            </a:r>
            <a:br>
              <a:rPr sz="3200"/>
            </a:br>
            <a:br>
              <a:rPr sz="3200"/>
            </a:b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Tahoma"/>
              </a:rPr>
              <a:t>Formats may vary: exemplars in Guidelines NCSE</a:t>
            </a:r>
            <a:br>
              <a:rPr sz="2000"/>
            </a:b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Tahoma"/>
              </a:rPr>
              <a:t>Annex 2 pg 66 -1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  <a:ea typeface="Tahoma"/>
              </a:rPr>
              <a:t>Omar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  <a:ea typeface="Tahoma"/>
              </a:rPr>
              <a:t>Age 5, Autism Spectrum Disord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67-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2. Melani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7, Emotional difficulties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71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3.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  <a:ea typeface="Tahoma"/>
              </a:rPr>
              <a:t>Davi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  <a:ea typeface="Tahoma"/>
              </a:rPr>
              <a:t>Age 9, Severe hearing los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76-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4. Oisi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10, Dyslexia and ADHD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79-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5. </a:t>
            </a:r>
            <a:r>
              <a:rPr b="0" lang="en-IE" sz="2400" spc="-1" strike="noStrike">
                <a:solidFill>
                  <a:srgbClr val="009999"/>
                </a:solidFill>
                <a:latin typeface="Arial"/>
                <a:ea typeface="Tahoma"/>
              </a:rPr>
              <a:t>Hanna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9999"/>
                </a:solidFill>
                <a:latin typeface="Arial"/>
                <a:ea typeface="Tahoma"/>
              </a:rPr>
              <a:t>Age 12, Severe and Profound GL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 81-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6. Luk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14, Aspergers / dyslexia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88-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7. </a:t>
            </a:r>
            <a:r>
              <a:rPr b="0" lang="en-IE" sz="2400" spc="-1" strike="noStrike">
                <a:solidFill>
                  <a:srgbClr val="993300"/>
                </a:solidFill>
                <a:latin typeface="Arial"/>
                <a:ea typeface="Tahoma"/>
              </a:rPr>
              <a:t>Jennif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993300"/>
                </a:solidFill>
                <a:latin typeface="Arial"/>
                <a:ea typeface="Tahoma"/>
              </a:rPr>
              <a:t>Age 15, Mod. General Learning Disabilit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94-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8. Aoif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Age 17, Physical disability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97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9. </a:t>
            </a:r>
            <a:r>
              <a:rPr b="0" lang="en-IE" sz="2400" spc="-1" strike="noStrike">
                <a:solidFill>
                  <a:srgbClr val="99cc00"/>
                </a:solidFill>
                <a:latin typeface="Arial"/>
                <a:ea typeface="Tahoma"/>
              </a:rPr>
              <a:t>Gregor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IE" sz="2400" spc="-1" strike="noStrike">
                <a:solidFill>
                  <a:srgbClr val="99cc00"/>
                </a:solidFill>
                <a:latin typeface="Arial"/>
                <a:ea typeface="Tahoma"/>
              </a:rPr>
              <a:t>Age 17, Mild General Learning Disabilit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Tahoma"/>
              </a:rPr>
              <a:t>p.100-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Tahoma"/>
              </a:rPr>
              <a:t>Stages in the IEP  Process 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Tahoma"/>
              </a:rPr>
              <a:t>- review as appropri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52488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10080" y="2057400"/>
            <a:ext cx="3338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referral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1148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5867280"/>
            <a:ext cx="1957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gath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5943600"/>
            <a:ext cx="2203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writing the 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4114800"/>
            <a:ext cx="235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mplement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2133720"/>
            <a:ext cx="2190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review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3357720"/>
            <a:ext cx="2952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The I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  <a:ea typeface="Tahoma"/>
              </a:rPr>
              <a:t>Information contained in the IE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2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Tahoma"/>
              </a:rPr>
              <a:t>An IEP contains information about th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pupil’s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strength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 and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pupil’s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current level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pupil’s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priority lear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resources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and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personne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implementation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 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- date of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review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Tahoma"/>
              </a:rPr>
              <a:t>of the I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ssessment 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Finding a Starting Poi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acher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acher Designed Tasks/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cept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ork Samples/ Portfolios/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rriculum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hecklists/ Rating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pil (as appropri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s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0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pecial Education Suppor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Ai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Tahoma"/>
              </a:rPr>
              <a:t>To enhance the quality of teaching and learning with particular reference to the education of children with 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cc"/>
                </a:solidFill>
                <a:latin typeface="Tahoma"/>
              </a:rPr>
              <a:t>To design and deliver a range of professional development initiatives and supports for schoo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cc"/>
                </a:solidFill>
                <a:latin typeface="Tahoma"/>
              </a:rPr>
              <a:t>To consolidate and co-ordinate existing professional development an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ssessment – Finding a Start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agnostic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riterion-Referenc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ndardised tests by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ndardised test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ucational Psyc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eech and Language Therap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ccupational Therap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ssie Murphy (Age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ssie has Down’s Syndrome and a moderate general learning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he attends a mainstream schoo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964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riting targets means identify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the pupil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ill do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and what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aterial and support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a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the pupil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ill perform the task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within a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specific timefram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the pupil will perform th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pupil will perform th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might support the pup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940360" y="4508640"/>
            <a:ext cx="2808360" cy="200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void Ov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iori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deally targets should be phrased as statements and where possible state the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behaviour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IE" sz="3200" spc="-1" strike="noStrike">
                <a:solidFill>
                  <a:srgbClr val="0066ff"/>
                </a:solidFill>
                <a:latin typeface="Arial"/>
              </a:rPr>
              <a:t>condi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IE" sz="3200" spc="-1" strike="noStrike">
                <a:solidFill>
                  <a:srgbClr val="33cc33"/>
                </a:solidFill>
                <a:latin typeface="Arial"/>
              </a:rPr>
              <a:t>crite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ssie will </a:t>
            </a: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stay in her own personal spa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33cc33"/>
                </a:solidFill>
                <a:latin typeface="Arial"/>
              </a:rPr>
              <a:t>at all time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66ff"/>
                </a:solidFill>
                <a:latin typeface="Arial"/>
              </a:rPr>
              <a:t>when in male company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ff"/>
                </a:solidFill>
                <a:latin typeface="Arial"/>
              </a:rPr>
              <a:t>‘</a:t>
            </a:r>
            <a:r>
              <a:rPr b="0" lang="en-IE" sz="2800" spc="-1" strike="noStrike">
                <a:solidFill>
                  <a:srgbClr val="0066ff"/>
                </a:solidFill>
                <a:latin typeface="Arial"/>
              </a:rPr>
              <a:t>When listening to storie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, Tom will </a:t>
            </a: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sit on the ma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33cc33"/>
                </a:solidFill>
                <a:latin typeface="Arial"/>
              </a:rPr>
              <a:t>for 5 minute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63640" y="2276640"/>
            <a:ext cx="6553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5369040"/>
                <a:tab algn="l" pos="8053560"/>
                <a:tab algn="l" pos="10737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_s1029"/>
          <p:cNvSpPr/>
          <p:nvPr/>
        </p:nvSpPr>
        <p:spPr>
          <a:xfrm flipV="1">
            <a:off x="971640" y="403560"/>
            <a:ext cx="3671640" cy="1303560"/>
          </a:xfrm>
          <a:custGeom>
            <a:avLst/>
            <a:gdLst>
              <a:gd name="textAreaLeft" fmla="*/ 807480 w 3671640"/>
              <a:gd name="textAreaRight" fmla="*/ 2864160 w 3671640"/>
              <a:gd name="textAreaTop" fmla="*/ 286560 h 1303560"/>
              <a:gd name="textAreaBottom" fmla="*/ 1017000 h 130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000066"/>
              </a:gs>
            </a:gsLst>
            <a:lin ang="5400000"/>
          </a:gra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5950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be agreed by all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186984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5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rategies are about what the adult will do  to support the pupil to achieve his/her targets (including adaptive equipment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of these are across the curriculum affecting all teacher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are more specific to individual situations. (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p. 37 NCSE Guide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592360" cy="1981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the reading ruler overlay filters out glare and helps with tracki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6000" y="4508640"/>
            <a:ext cx="2592360" cy="1652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995640" y="4314960"/>
            <a:ext cx="1285920" cy="25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view of the I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It is good practice for schools to review each IEP as appropriate depending on the needs and progress of the pupil but in any case not less than once per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veloping/ and Reviewing</a:t>
            </a: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he I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990720" y="205740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3124080"/>
            <a:ext cx="2057400" cy="121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0384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67280" y="28191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05120" y="419112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980720" y="27428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3526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3276720"/>
            <a:ext cx="20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Who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56280" y="2895480"/>
            <a:ext cx="17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   </a:t>
            </a: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61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75680" y="51814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87680" y="594360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Teach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61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00" y="5715000"/>
            <a:ext cx="32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Relevant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440" y="32767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333399"/>
                </a:solidFill>
                <a:latin typeface="Tahoma"/>
                <a:ea typeface="Tahoma"/>
              </a:rPr>
              <a:t>Pupil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based on the EPSEN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e consulted about an educ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eive a copy 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e informed of any changes to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eive a report of any review 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52908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upil Involvement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in their own I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pils can be involved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tting own targe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ing information about learning style, skills, possible intervention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nitoring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89840" y="1628640"/>
            <a:ext cx="259236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ES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43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5013360"/>
            <a:ext cx="396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ess.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9360" y="1309680"/>
            <a:ext cx="868536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Individual Education Plan (IEP) t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ere the child i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ere he should be 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How he’ll ge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How long it will take and how you will know when he has arrived’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(Arena 19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n writing IEPs, it is import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collab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have a whole-schoo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involv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involve the pupil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3933720"/>
            <a:ext cx="82296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EPs should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pupil strengths, needs and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priority learning needs and SMART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- time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for students with Special Educational Needs is ongoing  - a  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iving process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333399"/>
                </a:solidFill>
                <a:latin typeface="Arial"/>
              </a:rPr>
              <a:t>An IEP is the actual document that describes and records this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ecial Educ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/o Cork Education Support Cent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stern 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ss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lephone: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850-200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ES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538360" cy="354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503440" cy="3529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73560" y="1700280"/>
            <a:ext cx="3970440" cy="44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48000" y="1052640"/>
            <a:ext cx="554508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ahoma"/>
              </a:rPr>
              <a:t>Some Guidelines fo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General Learning Disabilities (N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xceptionally Able (N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earning Support Guidelines (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pecial Educational Needs: A continuum of Support (NEPS)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48000" y="549360"/>
            <a:ext cx="5545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Guidelines on the Individual Education Plan Process (NC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lusion of Students with Special Educational Needs (Post-Primary Guidelines)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Developing School Codes of Behaviour - Draft Guidelines for Consultation (NE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pecial Educational Needs – A Continuum of Support (N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Guidelin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Resource Pack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3571920"/>
            <a:ext cx="2021040" cy="28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3399"/>
                </a:solidFill>
                <a:latin typeface="Arial"/>
              </a:rPr>
              <a:t>Special Education Suppor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/o Cork Education Support Cent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estern Road, C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lephone: 1850 200 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o@sess.ie</a:t>
            </a:r>
            <a:r>
              <a:rPr b="0" lang="en-IE" sz="2800" spc="-1" strike="noStrike">
                <a:solidFill>
                  <a:srgbClr val="6600ff"/>
                </a:solidFill>
                <a:latin typeface="Arial"/>
              </a:rPr>
              <a:t> / </a:t>
            </a:r>
            <a:r>
              <a:rPr b="0" lang="en-I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edback@sess.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utline of Se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dividual Education Planning-the ‘Process’ and the ‘Produc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llaboration and th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EPs for pupils with 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ternationally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derpinned by law in man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vided for by EP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commended by NCSE, S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lleg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2006 –NCSE issued IEP guidelines - good practice in relation to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reparation, implementation an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7:57:39Z</dcterms:created>
  <dc:creator>M McMullin</dc:creator>
  <dc:description/>
  <dc:language>en-US</dc:language>
  <cp:lastModifiedBy>SESS</cp:lastModifiedBy>
  <dcterms:modified xsi:type="dcterms:W3CDTF">2009-02-09T18:46:37Z</dcterms:modified>
  <cp:revision>325</cp:revision>
  <dc:subject/>
  <dc:title>Slide 1</dc:title>
</cp:coreProperties>
</file>