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23.jpeg" ContentType="image/jpe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75840" y="679320"/>
            <a:ext cx="452628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D80-9E49-4B84-A847-8113F6053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6280" cy="3394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5B51-F66B-4E19-B00D-B074951F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832040" y="685800"/>
            <a:ext cx="3338280" cy="250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960" y="3389040"/>
            <a:ext cx="579132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254320" y="0"/>
            <a:ext cx="2455920" cy="1841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7760" y="2246040"/>
            <a:ext cx="5877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78000" y="0"/>
            <a:ext cx="2495520" cy="1871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7760" y="2315880"/>
            <a:ext cx="6026040" cy="60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CBB-D140-455E-8F34-0A39802C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04920" y="0"/>
            <a:ext cx="2446560" cy="1835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2840" y="2246040"/>
            <a:ext cx="5865840" cy="61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6578-8E0F-4E10-8B96-134872E4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06720" y="0"/>
            <a:ext cx="2538360" cy="1903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2480" y="2315880"/>
            <a:ext cx="5791320" cy="60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410-9B23-44FA-8B44-2C454D38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C61-D7B6-4319-B62C-F493DEF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0E8-9380-4E29-BCBF-656D87BD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B68-E125-4B00-B433-6A3540F1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5D91-8FFE-4902-BC8F-EB5171D0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F0FA-1BFB-43CD-9AE2-FC7A7100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CC18-BB60-4A73-B7EF-1B309132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158D-DF00-4B65-A900-078AD47E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5F75-BA7C-4A4D-A6F0-54EF124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887C-4AD7-4A51-AE86-8FE9341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58C3-A5D8-47D8-AB92-0D0C5E59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A2C-948F-41FA-808E-FC320CB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CFFA-D296-4655-A83A-89CF64D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BC43-3ECF-4C83-AFC7-8056FCE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3366-2B2D-4686-A893-69A7244B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F92A-0571-4E70-B007-982DA40B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FE9-C1C9-4BD4-8A58-784698DB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8CF-CB8D-4C66-9D4F-407B8141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06C-9465-4565-A338-5C73C16B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5E4-D120-43FE-869A-09F804C2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BDA-BCB3-4D5D-8FE4-7DAE91BE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FAE-69A4-4874-8DDB-51D037BC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934-A13C-4CF2-B46E-E29715D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4CA-FCCE-44FC-B53C-4DB55AB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0E31-507F-4C0E-9027-75F095D69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C8E-DA25-48A5-B727-993798899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89284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ss.ie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ess.i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sess.ie" TargetMode="External"/><Relationship Id="rId2" Type="http://schemas.openxmlformats.org/officeDocument/2006/relationships/hyperlink" Target="mailto:feedback@sess.ie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84360" y="214632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PECIAL EDUCATION SUPPOR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1555920"/>
            <a:ext cx="504720" cy="504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981000"/>
            <a:ext cx="503280" cy="503280"/>
          </a:xfrm>
          <a:prstGeom prst="ellipse">
            <a:avLst/>
          </a:prstGeom>
          <a:solidFill>
            <a:srgbClr val="e167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692280"/>
            <a:ext cx="431640" cy="431640"/>
          </a:xfrm>
          <a:prstGeom prst="ellipse">
            <a:avLst/>
          </a:prstGeom>
          <a:solidFill>
            <a:srgbClr val="c51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763560"/>
            <a:ext cx="432000" cy="4334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1195560"/>
            <a:ext cx="360360" cy="360360"/>
          </a:xfrm>
          <a:prstGeom prst="ellipse">
            <a:avLst/>
          </a:prstGeom>
          <a:solidFill>
            <a:srgbClr val="ae1a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1771560"/>
            <a:ext cx="28764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2276640"/>
            <a:ext cx="216000" cy="28728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3355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e1a99"/>
                </a:solidFill>
                <a:latin typeface="Tempus Sans ITC"/>
              </a:rPr>
              <a:t>building on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005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dividual Educa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-2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-6912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333360"/>
          <a:ext cx="6840720" cy="4110120"/>
        </p:xfrm>
        <a:graphic>
          <a:graphicData uri="http://schemas.openxmlformats.org/drawingml/2006/table">
            <a:tbl>
              <a:tblPr/>
              <a:tblGrid>
                <a:gridCol w="684072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8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hysical 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aring Impairment, Visu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motional Disturbance/Severe Emotional Disturb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neral Learning Disability( Borderline Mild/Mild/Moderate/Severe/Profoun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utism/Autistic Spectrum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800" y="6064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ncse_logo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147456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395280" y="4437000"/>
          <a:ext cx="6840720" cy="1804680"/>
        </p:xfrm>
        <a:graphic>
          <a:graphicData uri="http://schemas.openxmlformats.org/drawingml/2006/table">
            <a:tbl>
              <a:tblPr/>
              <a:tblGrid>
                <a:gridCol w="6840720"/>
              </a:tblGrid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 Learning 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ssessed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 Speech and Language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ultiple Dis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NCSE - IEP  Guidelines </a:t>
            </a:r>
            <a:br>
              <a:rPr sz="4400"/>
            </a:br>
            <a:r>
              <a:rPr b="1" i="1" lang="en-IE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066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uld be a practical working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corporating main area of pupil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ey interventions planned to meet thos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ccess to, participation in and benefit from the educational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ww.ncse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What is an IEP-1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IE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written pla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or a particular pupil that addresses specific nee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veloped through 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llaborative proces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volving the school, parents, pupil and other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cord of adapt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r modified aspects of the educational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ocus on the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riority learning need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f the pup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What is an IEP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reas of identified need arising from assessment should b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mount of adaptation and support will vary from pupil to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 IEP is an ongoing 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ing proces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’ rather than a finished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image of three second-level students male"/>
          <p:cNvPicPr/>
          <p:nvPr/>
        </p:nvPicPr>
        <p:blipFill>
          <a:blip r:embed="rId1"/>
          <a:stretch/>
        </p:blipFill>
        <p:spPr>
          <a:xfrm>
            <a:off x="468360" y="189000"/>
            <a:ext cx="1584360" cy="132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have an IEP for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pils with special educational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0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o a broad and balanc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vides for 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ntinuum of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nsure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cords ar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dentifie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upil progres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t a level commensurate with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image of student being assisted by staff"/>
          <p:cNvPicPr/>
          <p:nvPr/>
        </p:nvPicPr>
        <p:blipFill>
          <a:blip r:embed="rId1"/>
          <a:stretch/>
        </p:blipFill>
        <p:spPr>
          <a:xfrm>
            <a:off x="6877080" y="2349360"/>
            <a:ext cx="1905120" cy="333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Ps and Transition/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ssist with long-term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mote sharing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e for 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ow for allocation/transfer of resources and specialist services a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assure pupil/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ghlight issues for teachers /year-heads/ class tu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ids successful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145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ing an IEP: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 (Exemplars)</a:t>
            </a:r>
            <a:br>
              <a:rPr sz="3200"/>
            </a:br>
            <a:br>
              <a:rPr sz="3200"/>
            </a:b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Tahoma"/>
              </a:rPr>
              <a:t>Formats may vary: exemplars in Guidelines NCSE</a:t>
            </a:r>
            <a:br>
              <a:rPr sz="2000"/>
            </a:b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Tahoma"/>
              </a:rPr>
              <a:t>Annex 2 pg 66 -1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0" lang="en-IE" sz="2400" spc="-1" strike="noStrike">
                <a:solidFill>
                  <a:srgbClr val="ff0000"/>
                </a:solidFill>
                <a:latin typeface="Arial"/>
                <a:ea typeface="Tahoma"/>
              </a:rPr>
              <a:t>Omar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ff0000"/>
                </a:solidFill>
                <a:latin typeface="Arial"/>
                <a:ea typeface="Tahoma"/>
              </a:rPr>
              <a:t>Age 5, Autism Spectrum Disord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67-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2. Melani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7, Emotional difficulties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71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3.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  <a:ea typeface="Tahoma"/>
              </a:rPr>
              <a:t>Davi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  <a:ea typeface="Tahoma"/>
              </a:rPr>
              <a:t>Age 9, Severe hearing los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76-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4. Oisi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10, Dyslexia and ADHD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79-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5. </a:t>
            </a:r>
            <a:r>
              <a:rPr b="0" lang="en-IE" sz="2400" spc="-1" strike="noStrike">
                <a:solidFill>
                  <a:srgbClr val="009999"/>
                </a:solidFill>
                <a:latin typeface="Arial"/>
                <a:ea typeface="Tahoma"/>
              </a:rPr>
              <a:t>Hanna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9999"/>
                </a:solidFill>
                <a:latin typeface="Arial"/>
                <a:ea typeface="Tahoma"/>
              </a:rPr>
              <a:t>Age 12, Severe and Profound GL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81-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6. Luk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14, Aspergers / dyslexia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88-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7. </a:t>
            </a:r>
            <a:r>
              <a:rPr b="0" lang="en-IE" sz="2400" spc="-1" strike="noStrike">
                <a:solidFill>
                  <a:srgbClr val="993300"/>
                </a:solidFill>
                <a:latin typeface="Arial"/>
                <a:ea typeface="Tahoma"/>
              </a:rPr>
              <a:t>Jennif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993300"/>
                </a:solidFill>
                <a:latin typeface="Arial"/>
                <a:ea typeface="Tahoma"/>
              </a:rPr>
              <a:t>Age 15, Mod. General Learning Disabilit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94-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8. Aoif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17, Physical disability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97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9. </a:t>
            </a:r>
            <a:r>
              <a:rPr b="0" lang="en-IE" sz="2400" spc="-1" strike="noStrike">
                <a:solidFill>
                  <a:srgbClr val="99cc00"/>
                </a:solidFill>
                <a:latin typeface="Arial"/>
                <a:ea typeface="Tahoma"/>
              </a:rPr>
              <a:t>Gregor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99cc00"/>
                </a:solidFill>
                <a:latin typeface="Arial"/>
                <a:ea typeface="Tahoma"/>
              </a:rPr>
              <a:t>Age 17, Mild General Learning Disabilit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100-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Tahoma"/>
              </a:rPr>
              <a:t>Stages in the IEP  Process 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Tahoma"/>
              </a:rPr>
              <a:t>- review as appropri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52488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410080" y="2057400"/>
            <a:ext cx="3338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referral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1148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5867280"/>
            <a:ext cx="1957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gath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5943600"/>
            <a:ext cx="2203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writing the 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4114800"/>
            <a:ext cx="235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mplement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2133720"/>
            <a:ext cx="2190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review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3357720"/>
            <a:ext cx="2952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The I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  <a:ea typeface="Tahoma"/>
              </a:rPr>
              <a:t>Information contained in the IE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2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Tahoma"/>
              </a:rPr>
              <a:t>An IEP contains information about th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pupil’s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strength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 and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pupil’s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current level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pupil’s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priority lear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resources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and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personne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implementation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 of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date of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review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of the I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ssessment 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Finding a Starting Poi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acher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acher Designed Tasks/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cept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ork Samples/ Portfolios/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rriculum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hecklists/ Rating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pil (as appropri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s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0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pecial Education Suppor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Ai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Tahoma"/>
              </a:rPr>
              <a:t>To enhance the quality of teaching and learning with particular reference to the education of children with 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cc"/>
                </a:solidFill>
                <a:latin typeface="Tahoma"/>
              </a:rPr>
              <a:t>To design and deliver a range of professional development initiatives and supports for schoo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Tahoma"/>
              </a:rPr>
              <a:t>To consolidate and co-ordinate existing professional development an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ssessment – Finding a Start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agnostic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riterion-Referenc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ndardised tests by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ndardised test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ducational Psyc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eech and Language Therap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ccupational Therap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ssie Murphy (Age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ssie has Down’s Syndrome and a moderate general learning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he attends a mainstream schoo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964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riting targets means identify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the pupil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ill do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and what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aterial and support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ar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the pupil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ill perform the task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within a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specific timefram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the pupil will perform the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pupil will perform the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might support the pup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940360" y="4508640"/>
            <a:ext cx="2808360" cy="200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void Ov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iori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deally targets should be phrased as statements and where possible state the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behaviour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IE" sz="3200" spc="-1" strike="noStrike">
                <a:solidFill>
                  <a:srgbClr val="0066ff"/>
                </a:solidFill>
                <a:latin typeface="Arial"/>
              </a:rPr>
              <a:t>condition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IE" sz="3200" spc="-1" strike="noStrike">
                <a:solidFill>
                  <a:srgbClr val="33cc33"/>
                </a:solidFill>
                <a:latin typeface="Arial"/>
              </a:rPr>
              <a:t>crite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ssie will </a:t>
            </a: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stay in her own personal spac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33cc33"/>
                </a:solidFill>
                <a:latin typeface="Arial"/>
              </a:rPr>
              <a:t>at all time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66ff"/>
                </a:solidFill>
                <a:latin typeface="Arial"/>
              </a:rPr>
              <a:t>when in male company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ff"/>
                </a:solidFill>
                <a:latin typeface="Arial"/>
              </a:rPr>
              <a:t>‘</a:t>
            </a:r>
            <a:r>
              <a:rPr b="0" lang="en-IE" sz="2800" spc="-1" strike="noStrike">
                <a:solidFill>
                  <a:srgbClr val="0066ff"/>
                </a:solidFill>
                <a:latin typeface="Arial"/>
              </a:rPr>
              <a:t>When listening to storie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, Tom will </a:t>
            </a: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sit on the ma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33cc33"/>
                </a:solidFill>
                <a:latin typeface="Arial"/>
              </a:rPr>
              <a:t>for 5 minute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63640" y="2276640"/>
            <a:ext cx="6553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_s1029"/>
          <p:cNvSpPr/>
          <p:nvPr/>
        </p:nvSpPr>
        <p:spPr>
          <a:xfrm flipV="1">
            <a:off x="971640" y="403560"/>
            <a:ext cx="3671640" cy="1303560"/>
          </a:xfrm>
          <a:custGeom>
            <a:avLst/>
            <a:gdLst>
              <a:gd name="textAreaLeft" fmla="*/ 807480 w 3671640"/>
              <a:gd name="textAreaRight" fmla="*/ 2864160 w 3671640"/>
              <a:gd name="textAreaTop" fmla="*/ 286560 h 1303560"/>
              <a:gd name="textAreaBottom" fmla="*/ 1017000 h 130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000066"/>
              </a:gs>
            </a:gsLst>
            <a:lin ang="5400000"/>
          </a:gra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5950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be agreed by all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186984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5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rategies are about what the adult will do  to support the pupil to achieve his/her targets (including adaptive equipment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of these are across the curriculum affecting all teacher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are more specific to individual situations. (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p. 37 NCSE Guide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592360" cy="1981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the reading ruler overlay filters out glare and helps with tracki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6000" y="4508640"/>
            <a:ext cx="2592360" cy="1652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995640" y="4314960"/>
            <a:ext cx="1285920" cy="25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view of the I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It is good practice for schools to review each IEP as appropriate depending on the needs and progress of the pupil but in any case not less than once per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veloping/ and Reviewing</a:t>
            </a: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he I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182880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990720" y="205740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3124080"/>
            <a:ext cx="2057400" cy="1219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0384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67280" y="281916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905120" y="419112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980720" y="27428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3526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3276720"/>
            <a:ext cx="20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Who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56280" y="2895480"/>
            <a:ext cx="17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   </a:t>
            </a: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61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75680" y="51814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87680" y="594360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Teach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61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00" y="5715000"/>
            <a:ext cx="32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Relevant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440" y="32767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Pupil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based on the EPSEN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ar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re consulted about an educ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ceive a copy of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re informed of any changes to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ceive a report of any review of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52908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upil Involvement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in their own I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pils can be involved 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tting own targe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ing information about learning style, skills, possible intervention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nitoring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89840" y="1628640"/>
            <a:ext cx="2592360" cy="45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ESS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343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5013360"/>
            <a:ext cx="396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ess.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9360" y="1309680"/>
            <a:ext cx="868536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Individual Education Plan (IEP) t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Where the child i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Where he should be 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How he’ll ge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How long it will take and how you will know when he has arrived’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(Arena 19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n writing IEPs, it is import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collab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have a whole-schoo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involv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involve the pupil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3933720"/>
            <a:ext cx="82296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EPs should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pupil strengths, needs and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priority learning needs and SMART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time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for students with Special Educational Needs is ongoing  - a  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iving process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333399"/>
                </a:solidFill>
                <a:latin typeface="Arial"/>
              </a:rPr>
              <a:t>An IEP is the actual document that describes and records this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pecial Educat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/o Cork Education Support Cent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stern 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ss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lephone: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850-2008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ES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538360" cy="354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503440" cy="3529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73560" y="1700280"/>
            <a:ext cx="3970440" cy="446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48000" y="1052640"/>
            <a:ext cx="554508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ome Guidelines fo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General Learning Disabilities (NC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xceptionally Able (NC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earning Support Guidelines (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pecial Educational Needs: A continuum of Support (NEPS)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48000" y="549360"/>
            <a:ext cx="5545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Guidelines on the Individual Education Plan Process (NC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lusion of Students with Special Educational Needs (Post-Primary Guidelines)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 Developing School Codes of Behaviour - Draft Guidelines for Consultation (NE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pecial Educational Needs – A Continuum of Support (N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Guidelin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Resource Pack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3571920"/>
            <a:ext cx="2021040" cy="28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3399"/>
                </a:solidFill>
                <a:latin typeface="Arial"/>
              </a:rPr>
              <a:t>Special Education Suppor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/o Cork Education Support Cent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estern Road, C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lephone: 1850 200 8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o@sess.ie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 / </a:t>
            </a:r>
            <a:r>
              <a:rPr b="0" lang="en-I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edback@sess.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utline of Sem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dividual Education Planning-the ‘Process’ and the ‘Produc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llaboration and th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EPs for pupils with 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ternationally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derpinned by law in man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vided for by EP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commended by NCSE, S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lleg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2006 –NCSE issued IEP guidelines - good practice in relation to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reparation, implementation an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7:57:39Z</dcterms:created>
  <dc:creator>M McMullin</dc:creator>
  <dc:description/>
  <dc:language>en-US</dc:language>
  <cp:lastModifiedBy>SESS</cp:lastModifiedBy>
  <dcterms:modified xsi:type="dcterms:W3CDTF">2009-02-09T18:46:37Z</dcterms:modified>
  <cp:revision>325</cp:revision>
  <dc:subject/>
  <dc:title>Slide 1</dc:title>
</cp:coreProperties>
</file>